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87036"/>
        <c:axId val="15394180"/>
      </c:barChart>
      <c:catAx>
        <c:axId val="3058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94180"/>
        <c:crosses val="autoZero"/>
        <c:auto val="1"/>
        <c:lblAlgn val="ctr"/>
        <c:lblOffset val="100"/>
        <c:noMultiLvlLbl val="0"/>
      </c:catAx>
      <c:valAx>
        <c:axId val="15394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8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19C-C599-4512-81DB-EC7849BA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7E2-E502-4460-BF43-9DACF60E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C9C-2692-4796-B4A2-EDF21410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A9E-1440-44F3-B6CA-0DC8523F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04-F440-443B-8AAC-A178CDB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FA-5279-4548-BE88-B38B540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150-39B5-4AF7-8003-DC220EB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AB5-9878-4EA0-B0E8-311E8DC9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E6B-BF79-4FE1-95D2-C2BA849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6AD-DF27-4505-8C0B-32A5D62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7B2-0DD4-4E86-85C8-8143049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EFF-2A08-48BC-9881-5E228F7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593A-A842-4DD1-A4CB-6D98C0B8AF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